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AF93-9153-41EB-B78A-2CECD418C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F389-504F-4BA9-AA50-2D254805F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5D39-0049-40A9-B4FF-FE4B6F37D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EB1C-9D7F-4E77-930C-BC3AF07BA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12B7-71B5-4FFB-991F-6003DFB54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6B94-DFF3-4EBA-A1B7-D36DA486A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CAA4-B72F-436E-BF71-A531B6E46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0638-77F4-485C-8835-EE4E8C548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FB8C-DD93-4EF9-9E2C-C7D4D9A0D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2DDD-7C98-4158-9414-F8C97675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E6A7-79D4-4C4E-978B-C7880751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7B7E-528F-42EF-B326-2465DDC7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20D95-0997-4FC5-AC31-6D1AFF267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ily Activities and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we doing tod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K-47 Coll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Chapter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mp the Teach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work: Read Chapter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the results of political, economic and social oppression and the violation of human r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mp the Teacher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tudent will write down 5 questions as you are reading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question must be found in the 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air question is about content...a question you might expect to find on a quiz (In other words, not “What is the first word in the second paragraph of the third page?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stump the entire class gets one bonus point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1T13:04:41Z</dcterms:created>
  <dc:creator>Michael Farrell</dc:creator>
  <dc:description/>
  <dc:language>en-US</dc:language>
  <cp:lastModifiedBy>Michael Farrell</cp:lastModifiedBy>
  <dcterms:modified xsi:type="dcterms:W3CDTF">2011-01-31T13:14:13Z</dcterms:modified>
  <cp:revision>2</cp:revision>
  <dc:subject/>
  <dc:title>Daily Activities and Objectives</dc:title>
</cp:coreProperties>
</file>